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DCDF-7904-4AA0-B083-168044CD7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A579-8D9D-44D0-9CA5-D4E999717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722F6-1118-47BE-B700-5B75F11A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8503D-3EA6-485B-BFFC-A27A27118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1CA78-1EAD-445B-9368-2163419B7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9B33E-8D15-4321-B4A8-873B12073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1ED4E-3624-4FC3-AE49-9AE42AC3C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A743B-9B1D-458F-9C87-9F05B2F4B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8964E-8604-4FDF-8C02-03AF79F9F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C00B-B02B-40E0-B83C-4B7B215D1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09BB5-94D0-4563-BA3C-ACE383EB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0925E-F716-4726-A4FC-2DC83B3F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43A8D-4E8F-477A-8346-C2B32DA46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1C59-979D-4366-820A-8217ECA1D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D7DEB-B300-44CB-9658-3A1C38F68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EC9F9-4332-45D6-857D-17BB91D8D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85D16-894A-493B-BE84-6BCE74A91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4B7A9-F604-496C-9491-99A2781F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EB84-D6F4-492C-B230-F930665F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245D5-9FA7-4E16-B7AD-EE52D62D4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483B-D621-469C-AC9E-FD535F3B4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E7FF-2737-4288-97CA-F49F5069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0314-4B89-46CF-9C85-16F49C19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611C-DF18-4E18-9674-580812016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E21D-2E40-4FE1-A758-33515B28169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B021-397C-465C-A5FF-75C8CC3965F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jmarshall</cp:lastModifiedBy>
  <dcterms:modified xsi:type="dcterms:W3CDTF">2008-02-21T23:19:14Z</dcterms:modified>
  <cp:revision>38</cp:revision>
  <dc:subject/>
  <dc:title>PowerPoint Presentation</dc:title>
</cp:coreProperties>
</file>